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7.jpeg" ContentType="image/jpeg"/>
  <Override PartName="/ppt/media/image6.jpeg" ContentType="image/jpeg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45.wmf" ContentType="image/x-wmf"/>
  <Override PartName="/ppt/media/image17.jpeg" ContentType="image/jpeg"/>
  <Override PartName="/ppt/media/image33.jpeg" ContentType="image/jpeg"/>
  <Override PartName="/ppt/media/image34.jpeg" ContentType="image/jpeg"/>
  <Override PartName="/ppt/media/image43.wmf" ContentType="image/x-wmf"/>
  <Override PartName="/ppt/media/image23.png" ContentType="image/png"/>
  <Override PartName="/ppt/media/image44.wmf" ContentType="image/x-wmf"/>
  <Override PartName="/ppt/media/image46.jpeg" ContentType="image/jpeg"/>
  <Override PartName="/ppt/media/image30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11.wmf" ContentType="image/x-wmf"/>
  <Override PartName="/ppt/media/image5.jpeg" ContentType="image/jpeg"/>
  <Override PartName="/ppt/media/image26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jpeg" ContentType="image/jpeg"/>
  <Override PartName="/ppt/media/image12.jpeg" ContentType="image/jpeg"/>
  <Override PartName="/ppt/media/image9.jpeg" ContentType="image/jpeg"/>
  <Override PartName="/ppt/media/image39.jpeg" ContentType="image/jpeg"/>
  <Override PartName="/ppt/media/image8.jpeg" ContentType="image/jpeg"/>
  <Override PartName="/ppt/media/image7.gif" ContentType="image/gif"/>
  <Override PartName="/ppt/media/image29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AE4B-93CB-411A-8D1C-1CF053006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AFD9-9B26-4D68-81A7-464AB2DE4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A8C2-D43D-433D-98E7-D21059BBE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6213-EF83-45CF-BF16-6C7294DED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C3E0-0500-49C7-993F-222C2A211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1FEA-8A32-4EA3-A181-DBCC8DB10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67F7-4A3B-4725-9DD0-4A542FD25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FCB0-32C7-4549-AE3F-A5CDF25A0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3688-27E3-4434-B7AF-092E3247B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D895-D7BE-49CF-9911-6D0E6591A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D6B0-0717-4DF7-82F9-9ED671BB5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85C7-9288-4150-9FF0-58923D60F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5BB3-B3B1-4129-879E-F1287F267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C6AE-BD2C-441C-906E-A86775F13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D68F-1F69-4AED-B0AB-E391820D8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C85A-CF04-4B71-8688-2003E9D7B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3498-22FD-44E7-BA39-CC8E8338D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A1FE-BF77-4E7B-B081-B62FF714F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DBE1-2A48-4BAD-B573-D6EBE4A92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CAFD-6243-4B42-91CE-EB266C835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EC0F-66F8-42AA-B6D9-309D2336D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1596-7006-40D7-A6E8-35CD30F67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2B4D-55FE-417D-98A7-5D16E3CBB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AA5C-6345-41C3-9738-5A8605D51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E168-0A7A-4E69-8771-9AB630234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9ADF-BC68-43F8-8167-4511C1C61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220D-B2DC-4F8B-B84E-14FBF8BC2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87DE-BE0E-4789-96CD-DEFD02486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9CAC-6D23-4E4C-9CAD-B7B046522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E16A0-D411-483A-A853-654395455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DB3A-91E9-4747-AA85-9E70868D4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45F5-B7B7-4B0F-BAB6-BA6AA0937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F558-20F4-4BEF-A61D-86514EDE0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FB58-ABF2-4B23-9112-03393A628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7629-D26C-4AE4-B3A4-C7C67D1FF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679-AAA9-4050-9B4F-CBC1C383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EEA-45AE-47ED-A74E-8B29F2EA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CC4-7F90-4E14-98D8-C938F76B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4EB-9E77-409D-AA0E-8F7705BA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AA8-878F-4450-9CCE-455C7C51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E215-B434-43E3-AA03-D527AB35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AEE-F27A-46C4-9BA4-3AA706E4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D829-D9DD-466F-B88C-58762986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671-4719-4441-BAA4-5B258263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3FE-66C9-495E-AD8D-61F7A74F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4D93-F56F-45AA-B110-1D652364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34D-6636-4649-95BB-720B2F53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91AC-C7E1-4C07-A07C-DDAFF523E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indianmynaaction.org.au/" TargetMode="External"/><Relationship Id="rId2" Type="http://schemas.openxmlformats.org/officeDocument/2006/relationships/hyperlink" Target="mailto:handke@grapevine.net.au" TargetMode="External"/><Relationship Id="rId3" Type="http://schemas.openxmlformats.org/officeDocument/2006/relationships/hyperlink" Target="mailto:president@indianmynaaction.org.au" TargetMode="External"/><Relationship Id="rId4" Type="http://schemas.openxmlformats.org/officeDocument/2006/relationships/hyperlink" Target="mailto:chat@indianmynaaction.org.au" TargetMode="External"/><Relationship Id="rId5" Type="http://schemas.openxmlformats.org/officeDocument/2006/relationships/hyperlink" Target="mailto:subscribe@indianmynaaction.org.au" TargetMode="External"/><Relationship Id="rId6" Type="http://schemas.openxmlformats.org/officeDocument/2006/relationships/hyperlink" Target="mailto:subscribe@indianmynaaction.org.au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ckling Indian My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 Hand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berra Indian Myna Action Group I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mynas6"/>
          <p:cNvPicPr/>
          <p:nvPr/>
        </p:nvPicPr>
        <p:blipFill>
          <a:blip r:embed="rId1"/>
          <a:stretch/>
        </p:blipFill>
        <p:spPr>
          <a:xfrm>
            <a:off x="6877080" y="333360"/>
            <a:ext cx="14400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mon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896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100 most invasive 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UCN 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d most hated pest in A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Wild Watch Quest for Pests 20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at cane toad, feral cat and f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Extreme Threat 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S / D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have native birds or Indian Mynas — but not bot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n Fraser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naturalist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 Winner Aust Natural History Medall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Myna_Common_Dabb"/>
          <p:cNvPicPr/>
          <p:nvPr/>
        </p:nvPicPr>
        <p:blipFill>
          <a:blip r:embed="rId1"/>
          <a:stretch/>
        </p:blipFill>
        <p:spPr>
          <a:xfrm>
            <a:off x="5003640" y="2276640"/>
            <a:ext cx="382608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e Against  #1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633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threat to native wild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ver nesting hollows of native bi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rboreal mamm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gs, chicks &amp; 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 small birds out of gard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ticular threat 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ro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p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endange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uperb Parr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angered ins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dange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olden Sun Moth and endemic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ulner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lightless grassho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ade woodland eco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 reducing ecosystem services by other bi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4" descr="Myna cartoon"/>
          <p:cNvPicPr/>
          <p:nvPr/>
        </p:nvPicPr>
        <p:blipFill>
          <a:blip r:embed="rId1"/>
          <a:stretch/>
        </p:blipFill>
        <p:spPr>
          <a:xfrm>
            <a:off x="6084720" y="2205000"/>
            <a:ext cx="275148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 threat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Superb-Parrot"/>
          <p:cNvPicPr/>
          <p:nvPr/>
        </p:nvPicPr>
        <p:blipFill>
          <a:blip r:embed="rId1"/>
          <a:stretch/>
        </p:blipFill>
        <p:spPr>
          <a:xfrm>
            <a:off x="611280" y="1989000"/>
            <a:ext cx="4402080" cy="278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Rosella_Crimson5_Cook"/>
          <p:cNvPicPr/>
          <p:nvPr/>
        </p:nvPicPr>
        <p:blipFill>
          <a:blip r:embed="rId2"/>
          <a:stretch/>
        </p:blipFill>
        <p:spPr>
          <a:xfrm>
            <a:off x="5183280" y="3938760"/>
            <a:ext cx="2967120" cy="2187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Rosella_Eastern2_Dabb"/>
          <p:cNvPicPr/>
          <p:nvPr/>
        </p:nvPicPr>
        <p:blipFill>
          <a:blip r:embed="rId3"/>
          <a:stretch/>
        </p:blipFill>
        <p:spPr>
          <a:xfrm>
            <a:off x="5938920" y="549360"/>
            <a:ext cx="2157480" cy="3236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glider"/>
          <p:cNvPicPr/>
          <p:nvPr/>
        </p:nvPicPr>
        <p:blipFill>
          <a:blip r:embed="rId4"/>
          <a:stretch/>
        </p:blipFill>
        <p:spPr>
          <a:xfrm>
            <a:off x="1116000" y="4653000"/>
            <a:ext cx="15876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 Serious 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Grassland Earless Dragon"/>
          <p:cNvPicPr/>
          <p:nvPr/>
        </p:nvPicPr>
        <p:blipFill>
          <a:blip r:embed="rId1"/>
          <a:stretch/>
        </p:blipFill>
        <p:spPr>
          <a:xfrm>
            <a:off x="5292720" y="1413000"/>
            <a:ext cx="2930400" cy="218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oorooboorama TRaspy Crickets"/>
          <p:cNvPicPr/>
          <p:nvPr/>
        </p:nvPicPr>
        <p:blipFill>
          <a:blip r:embed="rId2"/>
          <a:stretch/>
        </p:blipFill>
        <p:spPr>
          <a:xfrm>
            <a:off x="4937040" y="3933720"/>
            <a:ext cx="2144880" cy="251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Golden Sun Moth"/>
          <p:cNvPicPr/>
          <p:nvPr/>
        </p:nvPicPr>
        <p:blipFill>
          <a:blip r:embed="rId3"/>
          <a:stretch/>
        </p:blipFill>
        <p:spPr>
          <a:xfrm>
            <a:off x="1403280" y="1413000"/>
            <a:ext cx="2376720" cy="2187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042920" y="3573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lden Sun Moth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nemon pl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476360" y="6093000"/>
            <a:ext cx="28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unga Flightless Grasshopp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runga ochrac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Perunga"/>
          <p:cNvPicPr/>
          <p:nvPr/>
        </p:nvPicPr>
        <p:blipFill>
          <a:blip r:embed="rId4"/>
          <a:stretch/>
        </p:blipFill>
        <p:spPr>
          <a:xfrm>
            <a:off x="684360" y="4508640"/>
            <a:ext cx="2425680" cy="1550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5940360" y="3573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ssland Earless Drag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940360" y="59500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ooboorama Raspy Cric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Kookaburra Rolevink#2"/>
          <p:cNvPicPr/>
          <p:nvPr/>
        </p:nvPicPr>
        <p:blipFill>
          <a:blip r:embed="rId1"/>
          <a:stretch/>
        </p:blipFill>
        <p:spPr>
          <a:xfrm>
            <a:off x="539640" y="907920"/>
            <a:ext cx="2108160" cy="3168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ockatoo_Gang-gang3_Robinson"/>
          <p:cNvPicPr/>
          <p:nvPr/>
        </p:nvPicPr>
        <p:blipFill>
          <a:blip r:embed="rId2"/>
          <a:stretch/>
        </p:blipFill>
        <p:spPr>
          <a:xfrm>
            <a:off x="3059280" y="981000"/>
            <a:ext cx="2087280" cy="181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ml000003"/>
          <p:cNvPicPr/>
          <p:nvPr/>
        </p:nvPicPr>
        <p:blipFill>
          <a:blip r:embed="rId3"/>
          <a:stretch/>
        </p:blipFill>
        <p:spPr>
          <a:xfrm>
            <a:off x="5867280" y="981000"/>
            <a:ext cx="2535480" cy="3051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byb_301"/>
          <p:cNvPicPr/>
          <p:nvPr/>
        </p:nvPicPr>
        <p:blipFill>
          <a:blip r:embed="rId4"/>
          <a:stretch/>
        </p:blipFill>
        <p:spPr>
          <a:xfrm>
            <a:off x="6588000" y="4221000"/>
            <a:ext cx="1650960" cy="2235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Fairy-Wren_Superb_s_Dabb"/>
          <p:cNvPicPr/>
          <p:nvPr/>
        </p:nvPicPr>
        <p:blipFill>
          <a:blip r:embed="rId5"/>
          <a:stretch/>
        </p:blipFill>
        <p:spPr>
          <a:xfrm>
            <a:off x="179280" y="4365720"/>
            <a:ext cx="1871640" cy="1498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7"/>
          <p:cNvSpPr/>
          <p:nvPr/>
        </p:nvSpPr>
        <p:spPr>
          <a:xfrm>
            <a:off x="1332000" y="189000"/>
            <a:ext cx="61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971640" y="1159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ld als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6" descr="Mistletoebird3_s_Cook"/>
          <p:cNvPicPr/>
          <p:nvPr/>
        </p:nvPicPr>
        <p:blipFill>
          <a:blip r:embed="rId6"/>
          <a:stretch/>
        </p:blipFill>
        <p:spPr>
          <a:xfrm>
            <a:off x="2124000" y="5300640"/>
            <a:ext cx="1584360" cy="1125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8" descr="Spinebill_Eastern_Harris"/>
          <p:cNvPicPr/>
          <p:nvPr/>
        </p:nvPicPr>
        <p:blipFill>
          <a:blip r:embed="rId7"/>
          <a:stretch/>
        </p:blipFill>
        <p:spPr>
          <a:xfrm>
            <a:off x="3924360" y="4668840"/>
            <a:ext cx="2500200" cy="1954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1" descr="Pardalote_Spotted_Harris"/>
          <p:cNvPicPr/>
          <p:nvPr/>
        </p:nvPicPr>
        <p:blipFill>
          <a:blip r:embed="rId8"/>
          <a:stretch/>
        </p:blipFill>
        <p:spPr>
          <a:xfrm>
            <a:off x="3419640" y="3141720"/>
            <a:ext cx="187164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ing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PB2802101"/>
          <p:cNvPicPr/>
          <p:nvPr/>
        </p:nvPicPr>
        <p:blipFill>
          <a:blip r:embed="rId1"/>
          <a:stretch/>
        </p:blipFill>
        <p:spPr>
          <a:xfrm>
            <a:off x="623880" y="1600200"/>
            <a:ext cx="3705120" cy="452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PB280215"/>
          <p:cNvPicPr/>
          <p:nvPr/>
        </p:nvPicPr>
        <p:blipFill>
          <a:blip r:embed="rId2"/>
          <a:stretch/>
        </p:blipFill>
        <p:spPr>
          <a:xfrm>
            <a:off x="5364000" y="134136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PB290235"/>
          <p:cNvPicPr/>
          <p:nvPr/>
        </p:nvPicPr>
        <p:blipFill>
          <a:blip r:embed="rId3"/>
          <a:stretch/>
        </p:blipFill>
        <p:spPr>
          <a:xfrm>
            <a:off x="4932360" y="410364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nge place for a 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PB290236"/>
          <p:cNvPicPr/>
          <p:nvPr/>
        </p:nvPicPr>
        <p:blipFill>
          <a:blip r:embed="rId1"/>
          <a:stretch/>
        </p:blipFill>
        <p:spPr>
          <a:xfrm>
            <a:off x="1589040" y="1625760"/>
            <a:ext cx="596412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we are concern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health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 mites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nithonyssus burs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rmanyssus gallin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dermatitis, asthma, severe irritation and ra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 from nests in roo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pings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ittacosis &amp; Ornithosis, Salmonellosis, Arbo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pneumonia, ga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 at outdoor cafes, factories, food wareho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vector for “bird flu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 ris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appy nests in roof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myna nest-contents"/>
          <p:cNvPicPr/>
          <p:nvPr/>
        </p:nvPicPr>
        <p:blipFill>
          <a:blip r:embed="rId1"/>
          <a:stretch/>
        </p:blipFill>
        <p:spPr>
          <a:xfrm>
            <a:off x="5580000" y="4365720"/>
            <a:ext cx="3092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 of myna 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myna nest-contents"/>
          <p:cNvPicPr/>
          <p:nvPr/>
        </p:nvPicPr>
        <p:blipFill>
          <a:blip r:embed="rId1"/>
          <a:stretch/>
        </p:blipFill>
        <p:spPr>
          <a:xfrm>
            <a:off x="1714680" y="1800360"/>
            <a:ext cx="571500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can make a difference”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MAG Mantr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a concerted, concentrated, co-ordinated &amp; sustained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ing nothing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ine in native wild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ort at household, commercial and gov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yard trapping has positive local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eeds additional effort to have landscape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feeding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nesting and roosting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p at roosting sites and in public spa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. nature reser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Myna logo #2"/>
          <p:cNvPicPr/>
          <p:nvPr/>
        </p:nvPicPr>
        <p:blipFill>
          <a:blip r:embed="rId1"/>
          <a:stretch/>
        </p:blipFill>
        <p:spPr>
          <a:xfrm>
            <a:off x="-324000" y="0"/>
            <a:ext cx="21067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ian (Common) Myna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ridotheres trist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4679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to Indian sub-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an to Sri La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 of Starling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cm t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nctive chocolate and black: yellow face skin, beak and legs: white wing 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ssive / territo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roost commu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rtunistic fee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t, food scraps, pet food, seed, berries, chicks, ins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lived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years or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eds Oct – 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ndian myna3"/>
          <p:cNvPicPr/>
          <p:nvPr/>
        </p:nvPicPr>
        <p:blipFill>
          <a:blip r:embed="rId1"/>
          <a:stretch/>
        </p:blipFill>
        <p:spPr>
          <a:xfrm>
            <a:off x="4788000" y="2133720"/>
            <a:ext cx="41860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064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MAG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nberra Indian Myna Action Group Inc.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ron:  Dr Chris Tideman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 native wildlife from the threa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ed by Indian My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 reduce their nuisance in urba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or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se public 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 public info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how to reduce feeding, roosting &amp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breeding opport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e trapping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-ac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ccessful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ing robust scientific re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ynas6"/>
          <p:cNvPicPr/>
          <p:nvPr/>
        </p:nvPicPr>
        <p:blipFill>
          <a:blip r:embed="rId1"/>
          <a:stretch/>
        </p:blipFill>
        <p:spPr>
          <a:xfrm>
            <a:off x="6877080" y="907920"/>
            <a:ext cx="16318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ckling the problem — Actions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63356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feeding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pet food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ter waste control at schools, restaurants and shopping cen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p direct fee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g at Aged Persons Host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nesting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up cavities in roo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 vigilance on nesting b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roost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 unsuitable shrubs / tr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g. dense exotic pencil pines, palm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suitable gard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open space (lawns) and plant native shru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roost"/>
          <p:cNvPicPr/>
          <p:nvPr/>
        </p:nvPicPr>
        <p:blipFill>
          <a:blip r:embed="rId1"/>
          <a:stretch/>
        </p:blipFill>
        <p:spPr>
          <a:xfrm>
            <a:off x="6516720" y="3573360"/>
            <a:ext cx="18954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ckling the problem — Actions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73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yard tr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local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of native bi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,400 mynas removed by CIMAG trappers at end Sept 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on Animal Welfare: RSPCA 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ve arrangement with RSPCA on dis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pping in public 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t roosting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 Tidemann / ANU 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roosting t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ing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PhD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thanasing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Roosting Tree experiment"/>
          <p:cNvPicPr/>
          <p:nvPr/>
        </p:nvPicPr>
        <p:blipFill>
          <a:blip r:embed="rId1"/>
          <a:stretch/>
        </p:blipFill>
        <p:spPr>
          <a:xfrm>
            <a:off x="4643280" y="4005360"/>
            <a:ext cx="38959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MAG Community-a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based on public particip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networks with impt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PCA, ANU, COG, ACT Govt, local councils, Landcare / Catchment Management groups, garden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ware and concerned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of public awareness ra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, high profile “champions”, public presentations, website, bullet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ping into public loathing of my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of worth in activities / con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believe actions will make a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see resul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Myna_Common_Dabb"/>
          <p:cNvPicPr/>
          <p:nvPr/>
        </p:nvPicPr>
        <p:blipFill>
          <a:blip r:embed="rId1"/>
          <a:stretch/>
        </p:blipFill>
        <p:spPr>
          <a:xfrm>
            <a:off x="6516720" y="4581360"/>
            <a:ext cx="2386080" cy="18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MAG Community-a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-scale participation nee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, practical and low-cos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cated and costly obligations a turn-of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, effective, easy-to-operate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own and manage own t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al method needs to be simple, but quick, painless &amp; stress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feedback to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recru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se many members will “drop off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administration load on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Myna_Common2_Dabb"/>
          <p:cNvPicPr/>
          <p:nvPr/>
        </p:nvPicPr>
        <p:blipFill>
          <a:blip r:embed="rId1"/>
          <a:stretch/>
        </p:blipFill>
        <p:spPr>
          <a:xfrm>
            <a:off x="6516720" y="414972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6" descr="P9210003"/>
          <p:cNvPicPr/>
          <p:nvPr/>
        </p:nvPicPr>
        <p:blipFill>
          <a:blip r:embed="rId1"/>
          <a:stretch/>
        </p:blipFill>
        <p:spPr>
          <a:xfrm>
            <a:off x="395280" y="981000"/>
            <a:ext cx="3456000" cy="2594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7" descr="Trap01"/>
          <p:cNvPicPr/>
          <p:nvPr/>
        </p:nvPicPr>
        <p:blipFill>
          <a:blip r:embed="rId2"/>
          <a:stretch/>
        </p:blipFill>
        <p:spPr>
          <a:xfrm>
            <a:off x="5843520" y="549360"/>
            <a:ext cx="2484360" cy="374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3" descr="PB290227"/>
          <p:cNvPicPr/>
          <p:nvPr/>
        </p:nvPicPr>
        <p:blipFill>
          <a:blip r:embed="rId3"/>
          <a:stretch/>
        </p:blipFill>
        <p:spPr>
          <a:xfrm>
            <a:off x="826920" y="414972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1"/>
          <p:cNvSpPr/>
          <p:nvPr/>
        </p:nvSpPr>
        <p:spPr>
          <a:xfrm>
            <a:off x="4572000" y="422100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naMag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2987640" y="227664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eG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780000" y="558972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na-mag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8" descr="Trap09"/>
          <p:cNvPicPr/>
          <p:nvPr/>
        </p:nvPicPr>
        <p:blipFill>
          <a:blip r:embed="rId4"/>
          <a:stretch/>
        </p:blipFill>
        <p:spPr>
          <a:xfrm>
            <a:off x="6227640" y="4508640"/>
            <a:ext cx="2205000" cy="17888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0"/>
          <p:cNvSpPr/>
          <p:nvPr/>
        </p:nvSpPr>
        <p:spPr>
          <a:xfrm>
            <a:off x="3851280" y="26370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y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MAG T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ly Cap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5"/>
          <p:cNvGraphicFramePr/>
          <p:nvPr/>
        </p:nvGraphicFramePr>
        <p:xfrm>
          <a:off x="399960" y="1438200"/>
          <a:ext cx="8543880" cy="47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438200"/>
                    <a:ext cx="854388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6"/>
          <p:cNvSpPr/>
          <p:nvPr/>
        </p:nvSpPr>
        <p:spPr>
          <a:xfrm>
            <a:off x="1116000" y="587700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captured to end Sept 2007 = 12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mynas trapped by other Canber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na / Starling 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3"/>
          <p:cNvGraphicFramePr/>
          <p:nvPr/>
        </p:nvGraphicFramePr>
        <p:xfrm>
          <a:off x="762120" y="1832040"/>
          <a:ext cx="773424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32040"/>
                    <a:ext cx="773424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an Mynas remo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per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200160" y="2421000"/>
          <a:ext cx="8820000" cy="41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2421000"/>
                    <a:ext cx="882000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6"/>
          <p:cNvSpPr/>
          <p:nvPr/>
        </p:nvSpPr>
        <p:spPr>
          <a:xfrm>
            <a:off x="3419640" y="645336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mynas caught in mon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ory Elsew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opera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namagnet, Aust Pest Bird Management Co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an Myna Reduction Pro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irns Myna Eradication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 Tidemann pro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sive Species Specialist Group (ISSG)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UCN/SSC, The University of Auck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encing projects on Pacific Is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res &amp; Councils on north NSW / Qld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eed, Byron, Coffs, Bellingen, Gosford, Pt Stephens, Caloundra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care &amp; environment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tings , Taree, Newcastle,  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ydney Cou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Myna logo #2"/>
          <p:cNvPicPr/>
          <p:nvPr/>
        </p:nvPicPr>
        <p:blipFill>
          <a:blip r:embed="rId1"/>
          <a:stretch/>
        </p:blipFill>
        <p:spPr>
          <a:xfrm>
            <a:off x="-108000" y="189000"/>
            <a:ext cx="172872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3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to be confused with the Noisy M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tar fee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highly aggressive and protective of food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more common and established in Canberra urban fri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ause some environmental  problem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st like the Bell Mine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noisy miner2"/>
          <p:cNvPicPr/>
          <p:nvPr/>
        </p:nvPicPr>
        <p:blipFill>
          <a:blip r:embed="rId1"/>
          <a:stretch/>
        </p:blipFill>
        <p:spPr>
          <a:xfrm>
            <a:off x="4648320" y="2303640"/>
            <a:ext cx="40384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51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J Denn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 Singing Garden — the Indian My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mme the town an' its clamour an' clutte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ain't very fond of the bush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my cobbers are coves of the gardens and gutter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ough metropolitan pus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ain't never too keen on the countryfied lif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's the hustle an' bustle for me an' me wif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 I swagger an' strut an' I cuss an' I swagge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'm wise to the city's hard wa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bit of a bloke an' a bit of a bragg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've always got plenty to sa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ed thro' knockin' about since my people came o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the land at the back of Bombay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out in the bush I am never a range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never ain't nothin' to se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ides, them bush birds got no time for a strange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 town an' the traffic for m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sleep in the gardens an' loaf in the stre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' sling off all day at the fellers I meet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' I swagger an' scold an' strut an' I swagger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' pick up me fun where I ca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ell off me wife, who's a bit of a nagger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scrap with the sparrers for scra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bonzer at bluffin', I give you my word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, between you an' me, I'm a pretty tough bir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"De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era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7 January 1933, Number 25 in the Bush Birds ser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MAG Contac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ndianmynaaction.org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andke@grapevine.net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esident@indianmynaaction.org.a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tlin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hat@indianmynaaction.org.a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News System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787d"/>
                </a:solidFill>
                <a:latin typeface="Arial"/>
              </a:rPr>
              <a:t>news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ubscribe@indianmynaaction.org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2 6231 74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DSC00639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000" y="1413000"/>
            <a:ext cx="82184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 Chris Tidemann, A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Dat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berra Ornithologists Group (CO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ff Dabb, David C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David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Tatnell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Rolevink, Stuart Harris, Debbie Claridge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Tidemann, MynaMag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Coast Indian Myna Action Group 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naMag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mynas6"/>
          <p:cNvPicPr/>
          <p:nvPr/>
        </p:nvPicPr>
        <p:blipFill>
          <a:blip r:embed="rId1"/>
          <a:stretch/>
        </p:blipFill>
        <p:spPr>
          <a:xfrm>
            <a:off x="1692360" y="1413000"/>
            <a:ext cx="1103400" cy="1655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Rosella_Crimson5_Cook"/>
          <p:cNvPicPr/>
          <p:nvPr/>
        </p:nvPicPr>
        <p:blipFill>
          <a:blip r:embed="rId2"/>
          <a:stretch/>
        </p:blipFill>
        <p:spPr>
          <a:xfrm>
            <a:off x="2411280" y="4724280"/>
            <a:ext cx="1584360" cy="11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Rosella_Eastern4_s_Dabb"/>
          <p:cNvPicPr/>
          <p:nvPr/>
        </p:nvPicPr>
        <p:blipFill>
          <a:blip r:embed="rId3"/>
          <a:stretch/>
        </p:blipFill>
        <p:spPr>
          <a:xfrm>
            <a:off x="4500720" y="4724280"/>
            <a:ext cx="1655640" cy="1130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glider"/>
          <p:cNvPicPr/>
          <p:nvPr/>
        </p:nvPicPr>
        <p:blipFill>
          <a:blip r:embed="rId4"/>
          <a:stretch/>
        </p:blipFill>
        <p:spPr>
          <a:xfrm>
            <a:off x="6877080" y="4581360"/>
            <a:ext cx="14238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 Starl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Black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Starling #4"/>
          <p:cNvPicPr/>
          <p:nvPr/>
        </p:nvPicPr>
        <p:blipFill>
          <a:blip r:embed="rId1"/>
          <a:stretch/>
        </p:blipFill>
        <p:spPr>
          <a:xfrm>
            <a:off x="3419640" y="189000"/>
            <a:ext cx="2728800" cy="338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Blackbird"/>
          <p:cNvPicPr/>
          <p:nvPr/>
        </p:nvPicPr>
        <p:blipFill>
          <a:blip r:embed="rId2"/>
          <a:stretch/>
        </p:blipFill>
        <p:spPr>
          <a:xfrm>
            <a:off x="4500720" y="3371760"/>
            <a:ext cx="35924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yna Inva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Melbour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trol locusts in market gard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n north to Qld canefields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8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trol cane bee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for cane t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ught to Canberra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across eastern sea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yna_Common_Harris"/>
          <p:cNvPicPr/>
          <p:nvPr/>
        </p:nvPicPr>
        <p:blipFill>
          <a:blip r:embed="rId1"/>
          <a:stretch/>
        </p:blipFill>
        <p:spPr>
          <a:xfrm>
            <a:off x="4859280" y="1700280"/>
            <a:ext cx="3889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na invas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mynaanim2"/>
          <p:cNvPicPr/>
          <p:nvPr/>
        </p:nvPicPr>
        <p:blipFill>
          <a:blip r:embed="rId1"/>
          <a:stretch/>
        </p:blipFill>
        <p:spPr>
          <a:xfrm>
            <a:off x="2309760" y="1986120"/>
            <a:ext cx="45244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an Mynas in Canbe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in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. at 250 per k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all suburbs and urban nature reser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abund"/>
          <p:cNvPicPr/>
          <p:nvPr/>
        </p:nvPicPr>
        <p:blipFill>
          <a:blip r:embed="rId1"/>
          <a:stretch/>
        </p:blipFill>
        <p:spPr>
          <a:xfrm>
            <a:off x="5214960" y="1600200"/>
            <a:ext cx="2903400" cy="21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distrib"/>
          <p:cNvPicPr/>
          <p:nvPr/>
        </p:nvPicPr>
        <p:blipFill>
          <a:blip r:embed="rId2"/>
          <a:stretch/>
        </p:blipFill>
        <p:spPr>
          <a:xfrm>
            <a:off x="5214960" y="3938760"/>
            <a:ext cx="29052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755640" y="1844640"/>
          <a:ext cx="6337440" cy="41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633744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6" descr="indian myna3"/>
          <p:cNvPicPr/>
          <p:nvPr/>
        </p:nvPicPr>
        <p:blipFill>
          <a:blip r:embed="rId3"/>
          <a:stretch/>
        </p:blipFill>
        <p:spPr>
          <a:xfrm>
            <a:off x="6012000" y="40464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611280" y="76500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na Abundance in Canb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ling abundance – in dec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611280" y="2133720"/>
          <a:ext cx="6121440" cy="406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6121440" cy="40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7" descr="Starling #4"/>
          <p:cNvPicPr/>
          <p:nvPr/>
        </p:nvPicPr>
        <p:blipFill>
          <a:blip r:embed="rId3"/>
          <a:stretch/>
        </p:blipFill>
        <p:spPr>
          <a:xfrm>
            <a:off x="6012000" y="476280"/>
            <a:ext cx="1974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09:18Z</dcterms:created>
  <dc:creator>Bill &amp; Jenny Handke</dc:creator>
  <dc:description/>
  <dc:language>en-US</dc:language>
  <cp:lastModifiedBy>John Shorten</cp:lastModifiedBy>
  <dcterms:modified xsi:type="dcterms:W3CDTF">2013-01-25T04:34:36Z</dcterms:modified>
  <cp:revision>179</cp:revision>
  <dc:subject/>
  <dc:title>Tackling Indian Mynas</dc:title>
</cp:coreProperties>
</file>