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7.jpeg" ContentType="image/jpeg"/>
  <Override PartName="/ppt/media/image6.jpeg" ContentType="image/jpeg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45.wmf" ContentType="image/x-wmf"/>
  <Override PartName="/ppt/media/image17.jpeg" ContentType="image/jpeg"/>
  <Override PartName="/ppt/media/image33.jpeg" ContentType="image/jpeg"/>
  <Override PartName="/ppt/media/image34.jpeg" ContentType="image/jpeg"/>
  <Override PartName="/ppt/media/image43.wmf" ContentType="image/x-wmf"/>
  <Override PartName="/ppt/media/image23.png" ContentType="image/png"/>
  <Override PartName="/ppt/media/image44.wmf" ContentType="image/x-wmf"/>
  <Override PartName="/ppt/media/image46.jpeg" ContentType="image/jpeg"/>
  <Override PartName="/ppt/media/image30.jpeg" ContentType="image/jpeg"/>
  <Override PartName="/ppt/media/image47.jpeg" ContentType="image/jpeg"/>
  <Override PartName="/ppt/media/image48.jpeg" ContentType="image/jpeg"/>
  <Override PartName="/ppt/media/image32.jpeg" ContentType="image/jpeg"/>
  <Override PartName="/ppt/media/image11.wmf" ContentType="image/x-wmf"/>
  <Override PartName="/ppt/media/image5.jpeg" ContentType="image/jpeg"/>
  <Override PartName="/ppt/media/image26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jpeg" ContentType="image/jpeg"/>
  <Override PartName="/ppt/media/image12.jpeg" ContentType="image/jpeg"/>
  <Override PartName="/ppt/media/image9.jpeg" ContentType="image/jpeg"/>
  <Override PartName="/ppt/media/image39.jpeg" ContentType="image/jpeg"/>
  <Override PartName="/ppt/media/image8.jpeg" ContentType="image/jpeg"/>
  <Override PartName="/ppt/media/image7.gif" ContentType="image/gif"/>
  <Override PartName="/ppt/media/image29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5EC6-D003-4C50-A4C0-2C6CADAEC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85C8-5ABC-47AC-98F0-0F3239D7E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DB97-7901-41F9-94FD-850B971C1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1A5F-475A-494E-BB97-B8B4A4F1D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203C-2953-4CA1-919B-6F2706088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8AEE-8C53-4148-A561-135BA07A2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959E-7B89-44CB-94BB-F52F7C852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872D-7E09-4FA2-9593-F1A722CD9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8F15-30A1-4C6E-B2DF-329992929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A6DC-8E2F-4E5C-9B64-AFFA1D1A8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1FB5-D4AB-4C96-9A25-9A139BDA8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BF10-6A1C-4B5A-BADC-B76E0996F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1F05-707F-4E02-9494-1F51149BB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45FC-A001-4FDE-971C-E9C09E2A9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EF91-13A2-41BF-8387-EFEBBBE89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7A14-8F27-4568-ACDB-291A0E9A7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1A25-A2D9-40C5-8C05-8EE682194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B057E-564C-499C-A74E-47AA8DFDE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65BE-8A7F-48C5-9149-D6FD68672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039B-2E39-499A-AB4D-8C6DD9C98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AC7C2-1557-4B44-95E0-122AABC5E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6D60-6179-47BD-B4E2-0C3ADD62C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E783-381D-4A31-B61A-EBEBCA1D5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3417-18D9-44AB-92DD-C7672FBE7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2281-8BB7-4F76-AE1B-8337A57BB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82BC-0771-4F85-968D-CC8540D80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0A98D-818A-4347-9D60-DBB31A228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F5BD-9647-4ACA-8CBF-04476D536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8382-1DCF-4284-9935-BD8C3DB68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7344-BEEC-4D98-9494-5F0856328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E2CD-07AD-48B1-86AD-DA00B4105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5F601-AC3C-4916-BDA6-4536CB970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599B-9FCA-48C7-8664-04F6B55B7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C1B3-8BE2-401D-A4B8-112BCC900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0962-D625-4FEF-B7BE-1DD634FBD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282C-4917-4020-A382-3372260E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2CBB-97F7-4230-B142-CA2DA532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44E6-16E4-4918-858E-9F244AE58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5983-7E87-4E9B-BCB1-D9F1DAB4E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2243-2AC4-4BC7-9987-BC3DC907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4F91-A249-4D4F-9D6E-E22A462D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A3FF-8A42-4833-B16B-E7CF3607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FA45-4335-44C4-B651-2D7C36C6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C2F9-75C9-4538-9126-1935E670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C5E7-D112-43F6-871F-4EE4DD40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C1F1-4D3D-4DF9-AFE1-5514A42C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8497-D524-46BF-92FC-D735FB0E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FCF4-1D42-4EC6-9EF6-FE0681C68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indianmynaaction.org.au/" TargetMode="External"/><Relationship Id="rId2" Type="http://schemas.openxmlformats.org/officeDocument/2006/relationships/hyperlink" Target="mailto:handke@grapevine.net.au" TargetMode="External"/><Relationship Id="rId3" Type="http://schemas.openxmlformats.org/officeDocument/2006/relationships/hyperlink" Target="mailto:president@indianmynaaction.org.au" TargetMode="External"/><Relationship Id="rId4" Type="http://schemas.openxmlformats.org/officeDocument/2006/relationships/hyperlink" Target="mailto:chat@indianmynaaction.org.au" TargetMode="External"/><Relationship Id="rId5" Type="http://schemas.openxmlformats.org/officeDocument/2006/relationships/hyperlink" Target="mailto:subscribe@indianmynaaction.org.au" TargetMode="External"/><Relationship Id="rId6" Type="http://schemas.openxmlformats.org/officeDocument/2006/relationships/hyperlink" Target="mailto:subscribe@indianmynaaction.org.au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ckling Indian My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l Hand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berra Indian Myna Action Group In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mynas6"/>
          <p:cNvPicPr/>
          <p:nvPr/>
        </p:nvPicPr>
        <p:blipFill>
          <a:blip r:embed="rId1"/>
          <a:stretch/>
        </p:blipFill>
        <p:spPr>
          <a:xfrm>
            <a:off x="6877080" y="333360"/>
            <a:ext cx="14400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imon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48960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100 most invasive spe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w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UCN 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ed most hated pest in A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 Wild Watch Quest for Pests 200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at cane toad, feral cat and f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Extreme Threat Categ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S / DE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have native birds or Indian Mynas — but not bot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n Fraser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 naturalist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6 Winner Aust Natural History Medall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Myna_Common_Dabb"/>
          <p:cNvPicPr/>
          <p:nvPr/>
        </p:nvPicPr>
        <p:blipFill>
          <a:blip r:embed="rId1"/>
          <a:stretch/>
        </p:blipFill>
        <p:spPr>
          <a:xfrm>
            <a:off x="5003640" y="2276640"/>
            <a:ext cx="382608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se Against  #1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63356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threat to native wild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ke over nesting hollows of native bir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rboreal mamm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gs, chicks &amp; in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 small birds out of gard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articular threat 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ro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p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endange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uperb Parr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angered ins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ndanger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olden Sun Moth and endemic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ulnera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lightless grasshop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ade woodland eco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 reducing ecosystem services by other bi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4" descr="Myna cartoon"/>
          <p:cNvPicPr/>
          <p:nvPr/>
        </p:nvPicPr>
        <p:blipFill>
          <a:blip r:embed="rId1"/>
          <a:stretch/>
        </p:blipFill>
        <p:spPr>
          <a:xfrm>
            <a:off x="6084720" y="2205000"/>
            <a:ext cx="275148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der threat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Superb-Parrot"/>
          <p:cNvPicPr/>
          <p:nvPr/>
        </p:nvPicPr>
        <p:blipFill>
          <a:blip r:embed="rId1"/>
          <a:stretch/>
        </p:blipFill>
        <p:spPr>
          <a:xfrm>
            <a:off x="611280" y="1989000"/>
            <a:ext cx="4402080" cy="278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Rosella_Crimson5_Cook"/>
          <p:cNvPicPr/>
          <p:nvPr/>
        </p:nvPicPr>
        <p:blipFill>
          <a:blip r:embed="rId2"/>
          <a:stretch/>
        </p:blipFill>
        <p:spPr>
          <a:xfrm>
            <a:off x="5183280" y="3938760"/>
            <a:ext cx="2967120" cy="2187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Rosella_Eastern2_Dabb"/>
          <p:cNvPicPr/>
          <p:nvPr/>
        </p:nvPicPr>
        <p:blipFill>
          <a:blip r:embed="rId3"/>
          <a:stretch/>
        </p:blipFill>
        <p:spPr>
          <a:xfrm>
            <a:off x="5938920" y="549360"/>
            <a:ext cx="2157480" cy="3236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5" descr="glider"/>
          <p:cNvPicPr/>
          <p:nvPr/>
        </p:nvPicPr>
        <p:blipFill>
          <a:blip r:embed="rId4"/>
          <a:stretch/>
        </p:blipFill>
        <p:spPr>
          <a:xfrm>
            <a:off x="1116000" y="4653000"/>
            <a:ext cx="15876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  Serious  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Grassland Earless Dragon"/>
          <p:cNvPicPr/>
          <p:nvPr/>
        </p:nvPicPr>
        <p:blipFill>
          <a:blip r:embed="rId1"/>
          <a:stretch/>
        </p:blipFill>
        <p:spPr>
          <a:xfrm>
            <a:off x="5292720" y="1413000"/>
            <a:ext cx="2930400" cy="218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Coorooboorama TRaspy Crickets"/>
          <p:cNvPicPr/>
          <p:nvPr/>
        </p:nvPicPr>
        <p:blipFill>
          <a:blip r:embed="rId2"/>
          <a:stretch/>
        </p:blipFill>
        <p:spPr>
          <a:xfrm>
            <a:off x="4937040" y="3933720"/>
            <a:ext cx="2144880" cy="2519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Golden Sun Moth"/>
          <p:cNvPicPr/>
          <p:nvPr/>
        </p:nvPicPr>
        <p:blipFill>
          <a:blip r:embed="rId3"/>
          <a:stretch/>
        </p:blipFill>
        <p:spPr>
          <a:xfrm>
            <a:off x="1403280" y="1413000"/>
            <a:ext cx="2376720" cy="2187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1042920" y="357336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lden Sun Moth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ynemon pla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476360" y="6093000"/>
            <a:ext cx="287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unga Flightless Grasshopp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erunga ochrac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Perunga"/>
          <p:cNvPicPr/>
          <p:nvPr/>
        </p:nvPicPr>
        <p:blipFill>
          <a:blip r:embed="rId4"/>
          <a:stretch/>
        </p:blipFill>
        <p:spPr>
          <a:xfrm>
            <a:off x="684360" y="4508640"/>
            <a:ext cx="2425680" cy="1550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5940360" y="3573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ssland Earless Drag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5940360" y="59500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ooboorama Raspy Crick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Kookaburra Rolevink#2"/>
          <p:cNvPicPr/>
          <p:nvPr/>
        </p:nvPicPr>
        <p:blipFill>
          <a:blip r:embed="rId1"/>
          <a:stretch/>
        </p:blipFill>
        <p:spPr>
          <a:xfrm>
            <a:off x="539640" y="907920"/>
            <a:ext cx="2108160" cy="3168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ockatoo_Gang-gang3_Robinson"/>
          <p:cNvPicPr/>
          <p:nvPr/>
        </p:nvPicPr>
        <p:blipFill>
          <a:blip r:embed="rId2"/>
          <a:stretch/>
        </p:blipFill>
        <p:spPr>
          <a:xfrm>
            <a:off x="3059280" y="981000"/>
            <a:ext cx="2087280" cy="1817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ml000003"/>
          <p:cNvPicPr/>
          <p:nvPr/>
        </p:nvPicPr>
        <p:blipFill>
          <a:blip r:embed="rId3"/>
          <a:stretch/>
        </p:blipFill>
        <p:spPr>
          <a:xfrm>
            <a:off x="5867280" y="981000"/>
            <a:ext cx="2535480" cy="3051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byb_301"/>
          <p:cNvPicPr/>
          <p:nvPr/>
        </p:nvPicPr>
        <p:blipFill>
          <a:blip r:embed="rId4"/>
          <a:stretch/>
        </p:blipFill>
        <p:spPr>
          <a:xfrm>
            <a:off x="6588000" y="4221000"/>
            <a:ext cx="1650960" cy="2235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Fairy-Wren_Superb_s_Dabb"/>
          <p:cNvPicPr/>
          <p:nvPr/>
        </p:nvPicPr>
        <p:blipFill>
          <a:blip r:embed="rId5"/>
          <a:stretch/>
        </p:blipFill>
        <p:spPr>
          <a:xfrm>
            <a:off x="179280" y="4365720"/>
            <a:ext cx="1871640" cy="14986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7"/>
          <p:cNvSpPr/>
          <p:nvPr/>
        </p:nvSpPr>
        <p:spPr>
          <a:xfrm>
            <a:off x="1332000" y="189000"/>
            <a:ext cx="6119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971640" y="1159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uld als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ff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6" descr="Mistletoebird3_s_Cook"/>
          <p:cNvPicPr/>
          <p:nvPr/>
        </p:nvPicPr>
        <p:blipFill>
          <a:blip r:embed="rId6"/>
          <a:stretch/>
        </p:blipFill>
        <p:spPr>
          <a:xfrm>
            <a:off x="2124000" y="5300640"/>
            <a:ext cx="1584360" cy="1125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8" descr="Spinebill_Eastern_Harris"/>
          <p:cNvPicPr/>
          <p:nvPr/>
        </p:nvPicPr>
        <p:blipFill>
          <a:blip r:embed="rId7"/>
          <a:stretch/>
        </p:blipFill>
        <p:spPr>
          <a:xfrm>
            <a:off x="3924360" y="4668840"/>
            <a:ext cx="2500200" cy="1954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1" descr="Pardalote_Spotted_Harris"/>
          <p:cNvPicPr/>
          <p:nvPr/>
        </p:nvPicPr>
        <p:blipFill>
          <a:blip r:embed="rId8"/>
          <a:stretch/>
        </p:blipFill>
        <p:spPr>
          <a:xfrm>
            <a:off x="3419640" y="3141720"/>
            <a:ext cx="187164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sting tar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8" descr="PB2802101"/>
          <p:cNvPicPr/>
          <p:nvPr/>
        </p:nvPicPr>
        <p:blipFill>
          <a:blip r:embed="rId1"/>
          <a:stretch/>
        </p:blipFill>
        <p:spPr>
          <a:xfrm>
            <a:off x="623880" y="1600200"/>
            <a:ext cx="3705120" cy="4525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PB280215"/>
          <p:cNvPicPr/>
          <p:nvPr/>
        </p:nvPicPr>
        <p:blipFill>
          <a:blip r:embed="rId2"/>
          <a:stretch/>
        </p:blipFill>
        <p:spPr>
          <a:xfrm>
            <a:off x="5364000" y="1341360"/>
            <a:ext cx="2914920" cy="218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PB290235"/>
          <p:cNvPicPr/>
          <p:nvPr/>
        </p:nvPicPr>
        <p:blipFill>
          <a:blip r:embed="rId3"/>
          <a:stretch/>
        </p:blipFill>
        <p:spPr>
          <a:xfrm>
            <a:off x="4932360" y="410364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nge place for a n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PB290236"/>
          <p:cNvPicPr/>
          <p:nvPr/>
        </p:nvPicPr>
        <p:blipFill>
          <a:blip r:embed="rId1"/>
          <a:stretch/>
        </p:blipFill>
        <p:spPr>
          <a:xfrm>
            <a:off x="1589040" y="1625760"/>
            <a:ext cx="5964120" cy="44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we are concern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health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d mites: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nithonyssus burs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rmanyssus gallina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 dermatitis, asthma, severe irritation and ras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 from nests in roo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ppings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ittacosis &amp; Ornithosis, Salmonellosis, Arbovir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use pneumonia, ga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rn at outdoor cafes, factories, food warehou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vector for “bird flu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 ris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appy nests in roof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myna nest-contents"/>
          <p:cNvPicPr/>
          <p:nvPr/>
        </p:nvPicPr>
        <p:blipFill>
          <a:blip r:embed="rId1"/>
          <a:stretch/>
        </p:blipFill>
        <p:spPr>
          <a:xfrm>
            <a:off x="5580000" y="4365720"/>
            <a:ext cx="30924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ts of myna n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myna nest-contents"/>
          <p:cNvPicPr/>
          <p:nvPr/>
        </p:nvPicPr>
        <p:blipFill>
          <a:blip r:embed="rId1"/>
          <a:stretch/>
        </p:blipFill>
        <p:spPr>
          <a:xfrm>
            <a:off x="1714680" y="1800360"/>
            <a:ext cx="571500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can make a difference”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IMAG Mantr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a concerted, concentrated, co-ordinated &amp; sustained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ing nothing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line in native wildlif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ort at household, commercial and govt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yard trapping has positive local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needs additional effort to have landscape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feeding 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nesting and roosting 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p at roosting sites and in public spa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p. nature reser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Myna logo #2"/>
          <p:cNvPicPr/>
          <p:nvPr/>
        </p:nvPicPr>
        <p:blipFill>
          <a:blip r:embed="rId1"/>
          <a:stretch/>
        </p:blipFill>
        <p:spPr>
          <a:xfrm>
            <a:off x="-324000" y="0"/>
            <a:ext cx="210672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dian (Common) Myna</a:t>
            </a: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ridotheres trist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628280"/>
            <a:ext cx="4679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 to Indian sub-con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an to Sri Lan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 of Starling fam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cm t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inctive chocolate and black: yellow face skin, beak and legs: white wing p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ssive / territor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roost communa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portunistic feed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t, food scraps, pet food, seed, berries, chicks, ins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lived: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 years or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eds Oct – M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indian myna3"/>
          <p:cNvPicPr/>
          <p:nvPr/>
        </p:nvPicPr>
        <p:blipFill>
          <a:blip r:embed="rId1"/>
          <a:stretch/>
        </p:blipFill>
        <p:spPr>
          <a:xfrm>
            <a:off x="4788000" y="2133720"/>
            <a:ext cx="41860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0643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MAG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anberra Indian Myna Action Group Inc.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ron:  Dr Chris Tideman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 native wildlife from the threa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ed by Indian My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 reduce their nuisance in urba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cor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se public awar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 public info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 how to reduce feeding, roosting &amp;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breeding opportun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e trapping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-act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uccessful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ing robust scientific resear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mynas6"/>
          <p:cNvPicPr/>
          <p:nvPr/>
        </p:nvPicPr>
        <p:blipFill>
          <a:blip r:embed="rId1"/>
          <a:stretch/>
        </p:blipFill>
        <p:spPr>
          <a:xfrm>
            <a:off x="6877080" y="907920"/>
            <a:ext cx="16318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ckling the problem — Actions #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63356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feeding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ep pet food ins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tter waste control at schools, restaurants and shopping cent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p direct fee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g at Aged Persons Host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nesting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 up cavities in roo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tain vigilance on nesting bo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roosting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ve unsuitable shrubs / tr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g. dense exotic pencil pines, palm tr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t suitable gard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 open space (lawns) and plant native shru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roost"/>
          <p:cNvPicPr/>
          <p:nvPr/>
        </p:nvPicPr>
        <p:blipFill>
          <a:blip r:embed="rId1"/>
          <a:stretch/>
        </p:blipFill>
        <p:spPr>
          <a:xfrm>
            <a:off x="6516720" y="3573360"/>
            <a:ext cx="18954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ckling the problem — Actions #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734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yard tr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 local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 of native bi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,400 mynas removed by CIMAG trappers at end Sept 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 on Animal Welfare: RSPCA agr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ive arrangement with RSPCA on dispo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pping in public sp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t roosting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 Tidemann / ANU resea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roosting tr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ing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PhD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thanasing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Roosting Tree experiment"/>
          <p:cNvPicPr/>
          <p:nvPr/>
        </p:nvPicPr>
        <p:blipFill>
          <a:blip r:embed="rId1"/>
          <a:stretch/>
        </p:blipFill>
        <p:spPr>
          <a:xfrm>
            <a:off x="4643280" y="4005360"/>
            <a:ext cx="389592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MAG Community-a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99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based on public particip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networks with impt organis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PCA, ANU, COG, ACT Govt, local councils, Landcare / Catchment Management groups, gardening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ware and concerned pub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of public awareness ra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a, high profile “champions”, public presentations, website, bullet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ping into public loathing of myn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 of worth in activities / con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believe actions will make a dif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see resul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Myna_Common_Dabb"/>
          <p:cNvPicPr/>
          <p:nvPr/>
        </p:nvPicPr>
        <p:blipFill>
          <a:blip r:embed="rId1"/>
          <a:stretch/>
        </p:blipFill>
        <p:spPr>
          <a:xfrm>
            <a:off x="6516720" y="4581360"/>
            <a:ext cx="2386080" cy="18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IMAG Community-a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707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-scale participation nee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, practical and low-cos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icated and costly obligations a turn-of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, effective, easy-to-operate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own and manage own tr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sal method needs to be simple, but quick, painless &amp; stress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r feedback to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recrui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se many members will “drop off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administration load on organ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Myna_Common2_Dabb"/>
          <p:cNvPicPr/>
          <p:nvPr/>
        </p:nvPicPr>
        <p:blipFill>
          <a:blip r:embed="rId1"/>
          <a:stretch/>
        </p:blipFill>
        <p:spPr>
          <a:xfrm>
            <a:off x="6516720" y="414972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6" descr="P9210003"/>
          <p:cNvPicPr/>
          <p:nvPr/>
        </p:nvPicPr>
        <p:blipFill>
          <a:blip r:embed="rId1"/>
          <a:stretch/>
        </p:blipFill>
        <p:spPr>
          <a:xfrm>
            <a:off x="395280" y="981000"/>
            <a:ext cx="3456000" cy="2594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7" descr="Trap01"/>
          <p:cNvPicPr/>
          <p:nvPr/>
        </p:nvPicPr>
        <p:blipFill>
          <a:blip r:embed="rId2"/>
          <a:stretch/>
        </p:blipFill>
        <p:spPr>
          <a:xfrm>
            <a:off x="5843520" y="549360"/>
            <a:ext cx="2484360" cy="3743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3" descr="PB290227"/>
          <p:cNvPicPr/>
          <p:nvPr/>
        </p:nvPicPr>
        <p:blipFill>
          <a:blip r:embed="rId3"/>
          <a:stretch/>
        </p:blipFill>
        <p:spPr>
          <a:xfrm>
            <a:off x="826920" y="414972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21"/>
          <p:cNvSpPr/>
          <p:nvPr/>
        </p:nvSpPr>
        <p:spPr>
          <a:xfrm>
            <a:off x="4572000" y="4221000"/>
            <a:ext cx="21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naMag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2987640" y="227664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eGe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780000" y="5589720"/>
            <a:ext cx="158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na-mag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8" descr="Trap09"/>
          <p:cNvPicPr/>
          <p:nvPr/>
        </p:nvPicPr>
        <p:blipFill>
          <a:blip r:embed="rId4"/>
          <a:stretch/>
        </p:blipFill>
        <p:spPr>
          <a:xfrm>
            <a:off x="6227640" y="4508640"/>
            <a:ext cx="2205000" cy="17888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30"/>
          <p:cNvSpPr/>
          <p:nvPr/>
        </p:nvSpPr>
        <p:spPr>
          <a:xfrm>
            <a:off x="3851280" y="263700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iMy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MAG T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hly Cap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5"/>
          <p:cNvGraphicFramePr/>
          <p:nvPr/>
        </p:nvGraphicFramePr>
        <p:xfrm>
          <a:off x="399960" y="1438200"/>
          <a:ext cx="8543880" cy="474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438200"/>
                    <a:ext cx="854388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6"/>
          <p:cNvSpPr/>
          <p:nvPr/>
        </p:nvSpPr>
        <p:spPr>
          <a:xfrm>
            <a:off x="1116000" y="587700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captured to end Sept 2007 = 12,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mynas trapped by other Canberr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na / Starling rat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3"/>
          <p:cNvGraphicFramePr/>
          <p:nvPr/>
        </p:nvGraphicFramePr>
        <p:xfrm>
          <a:off x="762120" y="1832040"/>
          <a:ext cx="773424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32040"/>
                    <a:ext cx="773424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an Mynas remov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per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4"/>
          <p:cNvGraphicFramePr/>
          <p:nvPr/>
        </p:nvGraphicFramePr>
        <p:xfrm>
          <a:off x="200160" y="2421000"/>
          <a:ext cx="8820000" cy="41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2421000"/>
                    <a:ext cx="8820000" cy="41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6"/>
          <p:cNvSpPr/>
          <p:nvPr/>
        </p:nvSpPr>
        <p:spPr>
          <a:xfrm>
            <a:off x="3419640" y="6453360"/>
            <a:ext cx="28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mber of mynas caught in mon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ory Elsew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893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rcial operati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namagnet, Aust Pest Bird Management Co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an Myna Reduction Progr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irns Myna Eradication Pro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 Tidemann projec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sive Species Specialist Group (ISSG)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UCN/SSC, The University of Auck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encing projects on Pacific Isl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res &amp; Councils on north NSW / Qld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eed, Byron, Coffs, Bellingen, Gosford, Pt Stephens, Caloundra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care &amp; environment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stings , Taree, Newcastle,  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ydney Cou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Myna logo #2"/>
          <p:cNvPicPr/>
          <p:nvPr/>
        </p:nvPicPr>
        <p:blipFill>
          <a:blip r:embed="rId1"/>
          <a:stretch/>
        </p:blipFill>
        <p:spPr>
          <a:xfrm>
            <a:off x="-108000" y="189000"/>
            <a:ext cx="172872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43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to be confused with the Noisy M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ctar fee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highly aggressive and protective of food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ing more common and established in Canberra urban fri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cause some environmental  problem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just like the Bell Mine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noisy miner2"/>
          <p:cNvPicPr/>
          <p:nvPr/>
        </p:nvPicPr>
        <p:blipFill>
          <a:blip r:embed="rId1"/>
          <a:stretch/>
        </p:blipFill>
        <p:spPr>
          <a:xfrm>
            <a:off x="4648320" y="2303640"/>
            <a:ext cx="40384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351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J Denn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e Singing Garden — the Indian My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imme the town an' its clamour an' clutter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ain't very fond of the bush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my cobbers are coves of the gardens and gutter 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tough metropolitan pus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ain't never too keen on the countryfied life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's the hustle an' bustle for me an' me wif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 I swagger an' strut an' I cuss an' I swagger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'm wise to the city's hard wa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bit of a bloke an' a bit of a bragge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've always got plenty to sa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rned thro' knockin' about since my people came ou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om the land at the back of Bombay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n out in the bush I am never a ranger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never ain't nothin' to se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sides, them bush birds got no time for a stranger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 town an' the traffic for m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sleep in the gardens an' loaf in the street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' sling off all day at the fellers I meet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' I swagger an' scold an' strut an' I swagger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' pick up me fun where I ca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ell off me wife, who's a bit of a nagger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scrap with the sparrers for scra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bonzer at bluffin', I give you my word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, between you an' me, I'm a pretty tough bir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"De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eral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7 January 1933, Number 25 in the Bush Birds seri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MAG Contac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3516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i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indianmynaaction.org.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andke@grapevine.net.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resident@indianmynaaction.org.a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tlin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hat@indianmynaaction.org.a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 News System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787d"/>
                </a:solidFill>
                <a:latin typeface="Arial"/>
              </a:rPr>
              <a:t>news-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ubscribe@indianmynaaction.org.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2 6231 74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8" descr="DSC00639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000" y="1413000"/>
            <a:ext cx="821844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 Chris Tidemann, A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Data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berra Ornithologists Group (CO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ff Dabb, David C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David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Tatnell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Rolevink, Stuart Harris, Debbie Claridge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Tidemann, MynaMagn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Coast Indian Myna Action Group I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naMag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Ch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mynas6"/>
          <p:cNvPicPr/>
          <p:nvPr/>
        </p:nvPicPr>
        <p:blipFill>
          <a:blip r:embed="rId1"/>
          <a:stretch/>
        </p:blipFill>
        <p:spPr>
          <a:xfrm>
            <a:off x="1692360" y="1413000"/>
            <a:ext cx="1103400" cy="1655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" descr="Rosella_Crimson5_Cook"/>
          <p:cNvPicPr/>
          <p:nvPr/>
        </p:nvPicPr>
        <p:blipFill>
          <a:blip r:embed="rId2"/>
          <a:stretch/>
        </p:blipFill>
        <p:spPr>
          <a:xfrm>
            <a:off x="2411280" y="4724280"/>
            <a:ext cx="1584360" cy="11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Rosella_Eastern4_s_Dabb"/>
          <p:cNvPicPr/>
          <p:nvPr/>
        </p:nvPicPr>
        <p:blipFill>
          <a:blip r:embed="rId3"/>
          <a:stretch/>
        </p:blipFill>
        <p:spPr>
          <a:xfrm>
            <a:off x="4500720" y="4724280"/>
            <a:ext cx="1655640" cy="1130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glider"/>
          <p:cNvPicPr/>
          <p:nvPr/>
        </p:nvPicPr>
        <p:blipFill>
          <a:blip r:embed="rId4"/>
          <a:stretch/>
        </p:blipFill>
        <p:spPr>
          <a:xfrm>
            <a:off x="6877080" y="4581360"/>
            <a:ext cx="14238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 Starling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 Blackb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Starling #4"/>
          <p:cNvPicPr/>
          <p:nvPr/>
        </p:nvPicPr>
        <p:blipFill>
          <a:blip r:embed="rId1"/>
          <a:stretch/>
        </p:blipFill>
        <p:spPr>
          <a:xfrm>
            <a:off x="3419640" y="189000"/>
            <a:ext cx="2728800" cy="338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Blackbird"/>
          <p:cNvPicPr/>
          <p:nvPr/>
        </p:nvPicPr>
        <p:blipFill>
          <a:blip r:embed="rId2"/>
          <a:stretch/>
        </p:blipFill>
        <p:spPr>
          <a:xfrm>
            <a:off x="4500720" y="3371760"/>
            <a:ext cx="35924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yna Invas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Melbourn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ntrol locusts in market gard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n north to Qld canefields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88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ntrol cane bee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as for cane t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ught to Canberra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across eastern sea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Myna_Common_Harris"/>
          <p:cNvPicPr/>
          <p:nvPr/>
        </p:nvPicPr>
        <p:blipFill>
          <a:blip r:embed="rId1"/>
          <a:stretch/>
        </p:blipFill>
        <p:spPr>
          <a:xfrm>
            <a:off x="4859280" y="1700280"/>
            <a:ext cx="38894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na invasion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mynaanim2"/>
          <p:cNvPicPr/>
          <p:nvPr/>
        </p:nvPicPr>
        <p:blipFill>
          <a:blip r:embed="rId1"/>
          <a:stretch/>
        </p:blipFill>
        <p:spPr>
          <a:xfrm>
            <a:off x="2309760" y="1986120"/>
            <a:ext cx="45244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an Mynas in Canber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in 196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. at 250 per k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ross all suburbs and urban nature reser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abund"/>
          <p:cNvPicPr/>
          <p:nvPr/>
        </p:nvPicPr>
        <p:blipFill>
          <a:blip r:embed="rId1"/>
          <a:stretch/>
        </p:blipFill>
        <p:spPr>
          <a:xfrm>
            <a:off x="5214960" y="1600200"/>
            <a:ext cx="2903400" cy="218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distrib"/>
          <p:cNvPicPr/>
          <p:nvPr/>
        </p:nvPicPr>
        <p:blipFill>
          <a:blip r:embed="rId2"/>
          <a:stretch/>
        </p:blipFill>
        <p:spPr>
          <a:xfrm>
            <a:off x="5214960" y="3938760"/>
            <a:ext cx="29052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755640" y="1844640"/>
          <a:ext cx="6337440" cy="41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844640"/>
                    <a:ext cx="633744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" name="Picture 6" descr="indian myna3"/>
          <p:cNvPicPr/>
          <p:nvPr/>
        </p:nvPicPr>
        <p:blipFill>
          <a:blip r:embed="rId3"/>
          <a:stretch/>
        </p:blipFill>
        <p:spPr>
          <a:xfrm>
            <a:off x="6012000" y="40464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9"/>
          <p:cNvSpPr/>
          <p:nvPr/>
        </p:nvSpPr>
        <p:spPr>
          <a:xfrm>
            <a:off x="611280" y="765000"/>
            <a:ext cx="43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na Abundance in Canb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ling abundance – in dec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611280" y="2133720"/>
          <a:ext cx="6121440" cy="406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133720"/>
                    <a:ext cx="6121440" cy="40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" name="Picture 7" descr="Starling #4"/>
          <p:cNvPicPr/>
          <p:nvPr/>
        </p:nvPicPr>
        <p:blipFill>
          <a:blip r:embed="rId3"/>
          <a:stretch/>
        </p:blipFill>
        <p:spPr>
          <a:xfrm>
            <a:off x="6012000" y="476280"/>
            <a:ext cx="19746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0:09:18Z</dcterms:created>
  <dc:creator>Bill &amp; Jenny Handke</dc:creator>
  <dc:description/>
  <dc:language>en-US</dc:language>
  <cp:lastModifiedBy>John Shorten</cp:lastModifiedBy>
  <dcterms:modified xsi:type="dcterms:W3CDTF">2013-01-25T04:34:36Z</dcterms:modified>
  <cp:revision>179</cp:revision>
  <dc:subject/>
  <dc:title>Tackling Indian Mynas</dc:title>
</cp:coreProperties>
</file>